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AF7-2D87-4F69-BEA8-4F276370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321-DEA6-47FF-A8B9-FC85300B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B2A-9E5B-49D7-B78E-847FB084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47C-67B2-4CC2-8F99-494B9D12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4245-9CCF-4761-911E-CD3F32B4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CE6B-AD5B-4566-9C93-B24E7BBC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72EF-F9E4-4080-B430-27CE20A3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E0F7-C225-4A52-B1B3-374AD6C8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8D9E-1D61-4443-8E6E-4D66AF1D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26C0-D2C4-48E9-8E86-D1884CE8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D6F1-8A04-4E06-87A5-EE70208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761-FB8C-467B-96CE-FBBA4BA2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E169-AD26-45E2-A4B0-6879394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441E-8121-457B-9781-43C8A3F2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2E39-E615-47C7-8DB1-09F47923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E3EF-6080-42CD-BA66-967C2CCF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86AA-D289-41F9-A36F-D1174444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506-5C69-4858-BADB-14AE2557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F63-9200-4688-B97A-0E01999B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18A-0086-4C3E-BF10-FE198851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DEC-16B5-49D2-B87B-EB55A4C0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F6D-19E7-4DDB-A4BB-8D359088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F64-1F0F-4163-A104-E9F8766C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4DD-8F45-458F-971B-B28DD279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A1BE-BC30-4B9F-8C8D-D25A838EB4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25D6-183E-469A-8CB2-927A89C403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cient.gerodot.ru/" TargetMode="External"/><Relationship Id="rId2" Type="http://schemas.openxmlformats.org/officeDocument/2006/relationships/hyperlink" Target="http://ellada.spb.ru/" TargetMode="External"/><Relationship Id="rId3" Type="http://schemas.openxmlformats.org/officeDocument/2006/relationships/hyperlink" Target="http://ellada.spb.ru/" TargetMode="External"/><Relationship Id="rId4" Type="http://schemas.openxmlformats.org/officeDocument/2006/relationships/hyperlink" Target="http://ellada.spb.ru/" TargetMode="External"/><Relationship Id="rId5" Type="http://schemas.openxmlformats.org/officeDocument/2006/relationships/hyperlink" Target="http://ellada.spb.ru/" TargetMode="External"/><Relationship Id="rId6" Type="http://schemas.openxmlformats.org/officeDocument/2006/relationships/hyperlink" Target="http://ellada.spb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904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Mistral"/>
              </a:rPr>
              <a:t>БОГИНИ ОЛИМПА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Выполнила студентка 4 курса филологического факультет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Дзюба Мар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stral"/>
              </a:rPr>
              <a:t>Сыктывкар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62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Mistral"/>
              </a:rPr>
              <a:t>ОСНОВОПОЛАГАЮЩИЙ ВОПРО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stral"/>
              </a:rPr>
              <a:t>СУЩЕСТВУЕТ ЛИ БОЖЕСТВЕННОЕ НАЧАЛО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Mistral"/>
              </a:rPr>
              <a:t>ПРОБЛЕМНЫЕ ВОПРОС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КАК ЗОВУТ ГЛАВНУЮ БОГИНЮ НА ОЛИМП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- КАКАЯ БОГИНЯ БЫЛА ОЛИЦЕТВОРЕНИЕМ ДОМАШНЕГО ОЧАГ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КАК ЗОВУТ САМУЮ МУДРУЮ БОГИНЮ</a:t>
            </a: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КТО ИЗ БОГИНЬ ОЛИЦЕТВОРЯЛ ЛЮБОВЬ И КРАСОТУ</a:t>
            </a: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str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КАКОЙ БОГИНЕ ПОКЛАНЯЛИСЬ ЗЕМЛЕДЕЛЬЦ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-КАК ЗОВУТ БОГИНЮ ЛУНЫ, ОХОТЫ И ПОКРОВИТЕЛЬНИЦУ СУПРУЖЕ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4284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Mistral"/>
              </a:rPr>
              <a:t>ДИДАКТИЧЕСКИЕ ЦЕЛИ ПРОЕКТ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ОЗНАКОМИТЬ ДЕТЕЙ С МИФОЛОГИЕЙ ДРЕВНЕЙ ГРЕЦ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НАУЧИТЬ ДЕТЕЙ РАЗЛИЧАТЬ БОГИНЬ ДРЕВНЕГРЕЧЕСКОЙ МИФОЛОГ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Mistral"/>
              </a:rPr>
              <a:t>ЭТАПЫ ПРЕДСТОЯЩЕЙ РАБОТ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ВЫБОР И ФОРМА ТЕМ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САМОСТОЯТЕЛЬНАЯ РАБОТА УЧАЩИХС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ЗАЩИТА ПРОЕК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15200" y="2362320"/>
            <a:ext cx="981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Mistral"/>
              </a:rPr>
              <a:t>НАШ КУРС БУДЕТ ДЛИТЬС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istral"/>
              </a:rPr>
              <a:t>ДВЕ НЕДЕЛИ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04760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Mistral"/>
              </a:rPr>
              <a:t>ПРЕДСТАВЛЕНИЕ РЕЗУЛЬТАТОВ ИССЛЕДОВА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ФОТОРЕПОРТАЖ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РЕЗЕНТАЦ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БУКЛЕТ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СОЧИНЕНИЕ, ЭСС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ВЕБ-САЙТ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10120" y="2619360"/>
            <a:ext cx="92376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703dff"/>
                </a:solidFill>
                <a:latin typeface="Mistral"/>
              </a:rPr>
              <a:t>ИНФОРМАЦИОННЫЕ РЕСУРСЫ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Бахтина О.И. Задания для самостоятельной работы по истории древнего мира. М.: Просвещение, 198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str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ванов Н.Н. 300 вопросов и ответов о мифологии. Ярославль: Академия развития, 199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ancient.gerodot.r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ellada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spb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r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http://ru.wikipedia.org/wiki/%D0%AD%D0%BB%D0%BB%D0%B8%D0%BD%D1%81%D0%BA%D0%B8%D0%B5_%D0%B1%D0%BE%D0%B3%D0%B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9:07:3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